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072F-B2BC-4858-8A00-CB796E7BC499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F2AC-9C07-4600-B2EC-E11F0D08ACB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DEF7-2A30-4B83-B2B3-60A41C4E0AB0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FAB5-D8ED-4153-A282-9DF98C2192A2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0628-65CB-48AD-9CE7-AF2D852A32D5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EF05-5205-42F7-8783-AB6FDB0C878E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7205-2873-4B51-8707-1E9ECC275AFA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8FE2-F2B1-46C8-9A1F-CCB7B55DADEB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ECF7-8315-4D8F-A92A-2EF33940A76F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C329-8496-40A1-ACA2-70636BBE8D9D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F184-C817-48F9-9618-8868BBC74BE5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5FF7-7E5D-4C55-B7A7-A5E21543BA76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717B-8D5C-4484-AED1-DECB0A58F7C4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DEA7-4BDD-4115-91F9-D2111D454D08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E101-FAC4-476C-AC64-EE21ACAA1291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A166-0568-4578-B679-DDE7D300C433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CC9C-7CA9-4CF4-A322-71BE619A60E0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9BD8-B8B9-48AC-809C-110593FAAD91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A7AC-0242-42C9-B066-4CB1E54990EE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C7E8-827C-4AD1-8CD1-4BCE4C763E72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4457-54FA-422F-A8FF-559260EF5E7D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B9E4-3759-4B91-88C4-B1703468B3AF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6E71-386D-4751-A85F-EA2EDFED9617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投影片編號版面配置區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F353-C273-4258-9FBC-F415C742E00C}" type="slidenum">
              <a:rPr b="0" lang="zh-TW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756-0B9D-4A84-A107-7AC111DF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DE4-5836-47E3-9BD3-3486D369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A64-176A-4A14-8392-A9CC12B0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92B-EA2F-4C3E-8053-705AD7F7B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9DAA-9E5C-4E5D-9F15-1E31490B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2A73-0CCE-4B0E-B460-0D121FA0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4D19-8C21-40A8-B6E2-B7730751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B964-1F78-4C92-85E6-9D2B7D29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736C-3484-4D31-88BD-C7B3578D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3F6C-A951-4152-9A3C-AB9E5B3E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293B-030F-4B37-9E7A-8602ABF3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899-F371-4F6F-9B34-B04F54B6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B398-E9A0-4140-A7FA-44513CAB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4EFD-DB22-41A1-8C44-EFB26EB6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758F-1319-474A-A904-A2AD9609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A370-E3C9-4B83-9714-B6BDCEF1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86DD-A4EE-4459-8341-FD8E40CD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B6667-C9FD-4A71-B4D4-D19D7B1E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CE89A-CAEF-4BAA-BC62-65A0052E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A726E-EAB5-4B19-8C6E-969EB1F9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F4B33-1361-41BA-814D-2A8AF74B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5FFB5-E5FA-4A7D-BA0B-FC656344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463-3609-45E1-B340-67EA18BA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C7EBA-0023-4A49-A6B2-113F91DD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9ECC2-5D7E-46A0-99FD-DF1790D6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59B33-E236-4CD9-B905-9AAC7F7E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EEAD6-5723-479E-B59C-242309DA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B6B55-55FE-48DB-9AFF-E33A6C1E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FA148-5500-4DD6-985B-DD3223BA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8EF05-8786-4AE0-8D0C-B4F4E0EF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23BF-E4CF-4B92-A06A-125F6250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F0A26-D8D6-430D-A814-B43206EC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15912-3721-4365-805B-BFF8EEEE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D1E-38D1-4BF4-9126-75EF4E11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34BEB-A0CD-428F-836E-39DFB1B1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41185-B936-4E0C-9FDC-1A4A409B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DCA4B-29B7-46D1-97FF-09AA87CC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966F5-F2CA-4C52-B6F6-26814BE2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AE4A2-2F5D-4D6A-A3FB-4F56F6B9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064EA-CDF7-467A-83DD-E648B8EC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73567-B764-41D1-9DE6-FBA4E85F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A0ABF-D092-46A4-9C44-9FF6D2BE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4161-FF87-4DBE-A7B4-1FC94108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3B9-34C9-4EF6-B03A-52A9E989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878-E4B9-49D5-8534-9B08CB5F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106-4D79-445A-A527-A98C16BB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564-4457-4B1B-935B-95C7F538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1605-5927-460D-B439-68203F2C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efe"/>
                </a:solidFill>
                <a:latin typeface="Times New Roman"/>
                <a:ea typeface="微軟正黑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C0BD-EE16-4143-ACD3-AD05F714AB73}" type="datetime">
              <a:rPr b="0" lang="zh-TW" sz="1200" spc="-1" strike="noStrike">
                <a:solidFill>
                  <a:srgbClr val="fefefe"/>
                </a:solidFill>
                <a:latin typeface="Times New Roman"/>
                <a:ea typeface="微軟正黑體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efe"/>
                </a:solidFill>
                <a:latin typeface="Times New Roman"/>
                <a:ea typeface="微軟正黑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8F16-6F28-4C6E-8964-02C915DC85E8}" type="slidenum">
              <a:rPr b="0" lang="zh-TW" sz="1200" spc="-1" strike="noStrike">
                <a:solidFill>
                  <a:srgbClr val="fefefe"/>
                </a:solidFill>
                <a:latin typeface="Times New Roman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efefe"/>
                </a:solidFill>
                <a:latin typeface="Times New Roman"/>
                <a:ea typeface="微軟正黑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F1BD-71D2-4B6B-8968-6ED8DE78E621}" type="datetime">
              <a:rPr b="0" lang="zh-TW" sz="2400" spc="-1" strike="noStrike">
                <a:solidFill>
                  <a:srgbClr val="fefefe"/>
                </a:solidFill>
                <a:latin typeface="Times New Roman"/>
                <a:ea typeface="微軟正黑體"/>
              </a:rPr>
              <a:t>115/0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94c600"/>
                </a:solidFill>
                <a:latin typeface="Times New Roman"/>
                <a:ea typeface="微軟正黑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CCEC-EAAC-4D45-82C1-AC621C3908F9}" type="slidenum">
              <a:rPr b="0" lang="zh-TW" sz="1200" spc="-1" strike="noStrike">
                <a:solidFill>
                  <a:srgbClr val="94c600"/>
                </a:solidFill>
                <a:latin typeface="Times New Roman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efe"/>
                </a:solidFill>
                <a:latin typeface="Times New Roman"/>
                <a:ea typeface="微軟正黑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1A4D-C3A6-47F3-82B0-24BE23219122}" type="datetime">
              <a:rPr b="0" lang="zh-TW" sz="1200" spc="-1" strike="noStrike">
                <a:solidFill>
                  <a:srgbClr val="fefefe"/>
                </a:solidFill>
                <a:latin typeface="Times New Roman"/>
                <a:ea typeface="微軟正黑體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efe"/>
                </a:solidFill>
                <a:latin typeface="Times New Roman"/>
                <a:ea typeface="微軟正黑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2C22-434A-49E7-B762-82D50EBCFF85}" type="slidenum">
              <a:rPr b="0" lang="zh-TW" sz="1200" spc="-1" strike="noStrike">
                <a:solidFill>
                  <a:srgbClr val="fefefe"/>
                </a:solidFill>
                <a:latin typeface="Times New Roman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efe"/>
                </a:solidFill>
                <a:latin typeface="Times New Roman"/>
                <a:ea typeface="微軟正黑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BAD6-7CC0-400D-B06D-C6E8BD556194}" type="datetime">
              <a:rPr b="0" lang="zh-TW" sz="1200" spc="-1" strike="noStrike">
                <a:solidFill>
                  <a:srgbClr val="fefefe"/>
                </a:solidFill>
                <a:latin typeface="Times New Roman"/>
                <a:ea typeface="微軟正黑體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efe"/>
                </a:solidFill>
                <a:latin typeface="Times New Roman"/>
                <a:ea typeface="微軟正黑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8C22-2C27-4563-8470-751F976CAF01}" type="slidenum">
              <a:rPr b="0" lang="zh-TW" sz="1200" spc="-1" strike="noStrike">
                <a:solidFill>
                  <a:srgbClr val="fefefe"/>
                </a:solidFill>
                <a:latin typeface="Times New Roman"/>
                <a:ea typeface="微軟正黑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611280" y="666720"/>
            <a:ext cx="3344760" cy="58374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0" y="43920"/>
            <a:ext cx="3672000" cy="223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國定古蹟</a:t>
            </a:r>
            <a:br>
              <a:rPr sz="3200"/>
            </a:br>
            <a:r>
              <a:rPr b="0" lang="zh-TW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麥寮拱範宮</a:t>
            </a:r>
            <a:br>
              <a:rPr sz="3200"/>
            </a:br>
            <a:r>
              <a:rPr b="0" lang="en-US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2012</a:t>
            </a:r>
            <a:r>
              <a:rPr b="0" lang="zh-TW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年 第六屆</a:t>
            </a:r>
            <a:br>
              <a:rPr sz="3200"/>
            </a:br>
            <a:r>
              <a:rPr b="0" lang="en-US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48h </a:t>
            </a:r>
            <a:r>
              <a:rPr b="0" lang="zh-TW" sz="3200" spc="-1" strike="noStrike">
                <a:solidFill>
                  <a:srgbClr val="94c600"/>
                </a:solidFill>
                <a:latin typeface="標楷體"/>
                <a:ea typeface="標楷體"/>
              </a:rPr>
              <a:t>單車環島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642920" y="2476440"/>
            <a:ext cx="352908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24242"/>
                </a:solidFill>
                <a:latin typeface="Century Gothic"/>
              </a:rPr>
              <a:t>行 程 規 劃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5" name="Picture 7" descr="D:\Documents\拱範宮\20120801_拱範宮 24h 單車環島行程\Material\第一代-組合.png"/>
          <p:cNvPicPr/>
          <p:nvPr/>
        </p:nvPicPr>
        <p:blipFill>
          <a:blip r:embed="rId2"/>
          <a:stretch/>
        </p:blipFill>
        <p:spPr>
          <a:xfrm>
            <a:off x="5148360" y="3357720"/>
            <a:ext cx="2624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8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3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 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~ 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4360" y="1413000"/>
            <a:ext cx="4248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7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桃園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新北市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1:30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桃園縣 蘆竹鄉 海山路二段 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560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號 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7-11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海湖門市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1:00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新北市 金山區 清水路 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52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號 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7-11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金全門市（中角）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Picture 6" descr="D:\Documents\拱範宮\20120801_拱範宮 24h 單車環島行程\Material\00_第二代_Q版_組合.jpg"/>
          <p:cNvPicPr/>
          <p:nvPr/>
        </p:nvPicPr>
        <p:blipFill>
          <a:blip r:embed="rId1"/>
          <a:stretch/>
        </p:blipFill>
        <p:spPr>
          <a:xfrm>
            <a:off x="6723000" y="4448160"/>
            <a:ext cx="1746360" cy="1573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755640" y="3133800"/>
            <a:ext cx="5715000" cy="3174840"/>
          </a:xfrm>
          <a:prstGeom prst="rect">
            <a:avLst/>
          </a:prstGeom>
          <a:ln w="0">
            <a:noFill/>
          </a:ln>
        </p:spPr>
      </p:pic>
      <p:sp>
        <p:nvSpPr>
          <p:cNvPr id="391" name="內容版面配置區 2"/>
          <p:cNvSpPr/>
          <p:nvPr/>
        </p:nvSpPr>
        <p:spPr>
          <a:xfrm>
            <a:off x="4859280" y="1413000"/>
            <a:ext cx="3960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65.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公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3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3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分鐘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公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2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4360" y="1413000"/>
            <a:ext cx="4319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8-1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新北市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1:00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新北市 金山區 清水路 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52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號 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7-11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金全門市（中角）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3:55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新北市 貢寮鄉 福隆海水浴場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5" name="Picture 6" descr="D:\Documents\拱範宮\20120801_拱範宮 24h 單車環島行程\Material\00_第二代_Q版_組合.jpg"/>
          <p:cNvPicPr/>
          <p:nvPr/>
        </p:nvPicPr>
        <p:blipFill>
          <a:blip r:embed="rId1"/>
          <a:stretch/>
        </p:blipFill>
        <p:spPr>
          <a:xfrm>
            <a:off x="6723000" y="4448160"/>
            <a:ext cx="1746360" cy="1573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755640" y="3133800"/>
            <a:ext cx="5715000" cy="3174840"/>
          </a:xfrm>
          <a:prstGeom prst="rect">
            <a:avLst/>
          </a:prstGeom>
          <a:ln w="0">
            <a:noFill/>
          </a:ln>
        </p:spPr>
      </p:pic>
      <p:sp>
        <p:nvSpPr>
          <p:cNvPr id="397" name="內容版面配置區 2"/>
          <p:cNvSpPr/>
          <p:nvPr/>
        </p:nvSpPr>
        <p:spPr>
          <a:xfrm>
            <a:off x="4932360" y="1413000"/>
            <a:ext cx="3960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61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公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2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5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分鐘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公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98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0920" y="1341360"/>
            <a:ext cx="410508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8-2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新北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宜蘭縣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3:55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新北市 貢寮鄉</a:t>
            </a:r>
            <a:br>
              <a:rPr sz="1600"/>
            </a:b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福隆海水浴場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6:45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宜蘭縣 蘇澳鎮</a:t>
            </a:r>
            <a:br>
              <a:rPr sz="1600"/>
            </a:b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zh-TW" sz="1400" spc="-1" strike="noStrike">
                <a:solidFill>
                  <a:srgbClr val="3e3d2d"/>
                </a:solidFill>
                <a:latin typeface="Century Gothic"/>
              </a:rPr>
              <a:t>南方澳南天宮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68.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5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5 ~ 4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0920" y="1341360"/>
            <a:ext cx="410508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9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宜蘭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花蓮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6:45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宜蘭縣 蘇澳鎮</a:t>
            </a:r>
            <a:br>
              <a:rPr sz="1600"/>
            </a:b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zh-TW" sz="1400" spc="-1" strike="noStrike">
                <a:solidFill>
                  <a:srgbClr val="3e3d2d"/>
                </a:solidFill>
                <a:latin typeface="Century Gothic"/>
              </a:rPr>
              <a:t>南方澳南天宮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0:3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花蓮縣 新城鄉 家樂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98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5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5 ~ 4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68000" y="1341360"/>
            <a:ext cx="4103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0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花蓮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東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0:3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花蓮縣 新城鄉 家樂福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4:3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東縣 長濱鄉 樟原派出所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88.2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4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小時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5 ~ 4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8000" y="1341360"/>
            <a:ext cx="4103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1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東縣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4:3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東縣 長濱鄉 樟原派出所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8:1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東市公所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84.3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4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5 ~ 4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備註：行經 台東縣 南王里「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湄聖宮」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8000" y="1341360"/>
            <a:ext cx="4103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2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東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屏東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8:1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東市公所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1:1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屏東縣 獅子鄉</a:t>
            </a:r>
            <a:br>
              <a:rPr sz="1600"/>
            </a:b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	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壽卡鐵馬驛站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77.3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小時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5 ~ 4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備註：行經 台東縣 太麻里「遠天宮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」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4360" y="1413000"/>
            <a:ext cx="4319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3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屏東縣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1:1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屏東縣 獅子鄉 壽卡鐵馬驛站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2:1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屏東縣 枋山鄉 舊庄路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53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號</a:t>
            </a:r>
            <a:br>
              <a:rPr sz="1600"/>
            </a:b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	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（台灣中油）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26" name="Picture 6" descr="D:\Documents\拱範宮\20120801_拱範宮 24h 單車環島行程\Material\00_第二代_Q版_組合.jpg"/>
          <p:cNvPicPr/>
          <p:nvPr/>
        </p:nvPicPr>
        <p:blipFill>
          <a:blip r:embed="rId1"/>
          <a:stretch/>
        </p:blipFill>
        <p:spPr>
          <a:xfrm>
            <a:off x="6723000" y="4448160"/>
            <a:ext cx="1746360" cy="1573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755640" y="3133800"/>
            <a:ext cx="5715000" cy="3174840"/>
          </a:xfrm>
          <a:prstGeom prst="rect">
            <a:avLst/>
          </a:prstGeom>
          <a:ln w="0">
            <a:noFill/>
          </a:ln>
        </p:spPr>
      </p:pic>
      <p:sp>
        <p:nvSpPr>
          <p:cNvPr id="428" name="內容版面配置區 2"/>
          <p:cNvSpPr/>
          <p:nvPr/>
        </p:nvSpPr>
        <p:spPr>
          <a:xfrm>
            <a:off x="4932360" y="1413000"/>
            <a:ext cx="3960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21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公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1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小時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公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9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 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~ 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2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8000" y="1341360"/>
            <a:ext cx="4103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4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屏東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高雄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2:1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屏東縣 枋山鄉 舊庄路</a:t>
            </a:r>
            <a:br>
              <a:rPr sz="1600"/>
            </a:b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53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號（台灣中油）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2:4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高雄市 小港區 沿海一路</a:t>
            </a:r>
            <a:br>
              <a:rPr sz="1600"/>
            </a:b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57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號（麥當勞 高雄沿海店）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62.1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4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5 ~ 4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2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000" y="1341360"/>
            <a:ext cx="4103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5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高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南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2:4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高雄市 小港區 沿海一路</a:t>
            </a:r>
            <a:br>
              <a:rPr sz="1600"/>
            </a:b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57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號（麥當勞 高雄沿海店）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5:0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南市政府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56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5 ~ 4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8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3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8360" y="1341360"/>
            <a:ext cx="396072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雲林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彰化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0:0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雲林縣 麥寮拱範宮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2:3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彰化縣 鹿港龍山寺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41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8" name="Picture 6" descr="D:\Documents\拱範宮\20120801_拱範宮 24h 單車環島行程\Material\00_第二代_Q版_組合.jpg"/>
          <p:cNvPicPr/>
          <p:nvPr/>
        </p:nvPicPr>
        <p:blipFill>
          <a:blip r:embed="rId1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2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1341360"/>
            <a:ext cx="41054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6-1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南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嘉義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5:0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南市政府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7:30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嘉義縣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布袋鎮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龍江路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1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號</a:t>
            </a:r>
            <a:br>
              <a:rPr sz="1600"/>
            </a:b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（全家便利商店 布袋港村店）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58.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5 ~ 3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2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95280" y="1341360"/>
            <a:ext cx="41054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6-2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嘉義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雲林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7:30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嘉義縣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布袋鎮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龍江路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1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號</a:t>
            </a:r>
            <a:br>
              <a:rPr sz="1600"/>
            </a:b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（全家便利商店 布袋港村店）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9:3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雲林縣 台西鄉 五條港</a:t>
            </a:r>
            <a:br>
              <a:rPr sz="1600"/>
            </a:b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	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安西府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43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小時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9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02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4360" y="1413000"/>
            <a:ext cx="4319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7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雲林縣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09:3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雲林縣 台西鄉 五條港 安西府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0:0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雲林縣 麥寮拱範宮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52" name="Picture 6" descr="D:\Documents\拱範宮\20120801_拱範宮 24h 單車環島行程\Material\00_第二代_Q版_組合.jpg"/>
          <p:cNvPicPr/>
          <p:nvPr/>
        </p:nvPicPr>
        <p:blipFill>
          <a:blip r:embed="rId1"/>
          <a:stretch/>
        </p:blipFill>
        <p:spPr>
          <a:xfrm>
            <a:off x="6723000" y="4448160"/>
            <a:ext cx="1746360" cy="1573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"/>
          <p:cNvPicPr/>
          <p:nvPr/>
        </p:nvPicPr>
        <p:blipFill>
          <a:blip r:embed="rId2"/>
          <a:stretch/>
        </p:blipFill>
        <p:spPr>
          <a:xfrm>
            <a:off x="755640" y="3133800"/>
            <a:ext cx="5715000" cy="3174840"/>
          </a:xfrm>
          <a:prstGeom prst="rect">
            <a:avLst/>
          </a:prstGeom>
          <a:ln w="0">
            <a:noFill/>
          </a:ln>
        </p:spPr>
      </p:pic>
      <p:sp>
        <p:nvSpPr>
          <p:cNvPr id="454" name="內容版面配置區 2"/>
          <p:cNvSpPr/>
          <p:nvPr/>
        </p:nvSpPr>
        <p:spPr>
          <a:xfrm>
            <a:off x="4932360" y="1413000"/>
            <a:ext cx="3960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7.3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公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3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分鐘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公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5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8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3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8000" y="1341360"/>
            <a:ext cx="4103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彰化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中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2:3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彰化縣 鹿港龍山寺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5:1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中市 大甲鎮瀾宮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45.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4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備註：行經「鹿港 天后宮」、「麗水派出所」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3" name="Picture 6" descr="D:\Documents\拱範宮\20120801_拱範宮 24h 單車環島行程\Material\00_第二代_Q版_組合.jpg"/>
          <p:cNvPicPr/>
          <p:nvPr/>
        </p:nvPicPr>
        <p:blipFill>
          <a:blip r:embed="rId1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8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3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000" y="1341360"/>
            <a:ext cx="4103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中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苗栗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5:1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台中市 大甲鎮瀾宮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5:5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苗栗縣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苑裡鎮 東西七路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（高架橋下涵洞）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3.6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4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8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3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341360"/>
            <a:ext cx="4103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4-1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苗栗縣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5:5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苗栗縣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苑裡鎮 東西七路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（高架橋下涵洞）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6:4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苗栗縣 白沙屯 拱天宮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8.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5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8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3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360" y="1341360"/>
            <a:ext cx="395928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4-2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苗栗縣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6:4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苗栗縣 白沙屯 拱天宮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7:55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苗栗縣 竹南鎮 崎頂海水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浴場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5.4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１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8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3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341360"/>
            <a:ext cx="395928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5-1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苗栗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新竹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&amp;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桃園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7:55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苗栗縣 竹南鎮 崎頂海水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浴場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9:35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桃園縣 新屋鄉 永安漁港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37.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１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4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8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3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4000" y="1413000"/>
            <a:ext cx="4103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5-2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桃園縣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9:35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桃園縣 新屋鄉 永安漁港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1:05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桃園縣 蘆竹鄉 桃園龍德宮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8" name="Picture 6" descr="D:\Documents\拱範宮\20120801_拱範宮 24h 單車環島行程\Material\00_第二代_Q版_組合.jpg"/>
          <p:cNvPicPr/>
          <p:nvPr/>
        </p:nvPicPr>
        <p:blipFill>
          <a:blip r:embed="rId1"/>
          <a:stretch/>
        </p:blipFill>
        <p:spPr>
          <a:xfrm>
            <a:off x="6723000" y="4448160"/>
            <a:ext cx="1746360" cy="1573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D:\Documents\拱範宮\20120801_拱範宮 24h 單車環島行程\Material\05-2.jpg"/>
          <p:cNvPicPr/>
          <p:nvPr/>
        </p:nvPicPr>
        <p:blipFill>
          <a:blip r:embed="rId2"/>
          <a:stretch/>
        </p:blipFill>
        <p:spPr>
          <a:xfrm>
            <a:off x="755640" y="3133800"/>
            <a:ext cx="5715000" cy="3174840"/>
          </a:xfrm>
          <a:prstGeom prst="rect">
            <a:avLst/>
          </a:prstGeom>
          <a:ln w="0">
            <a:noFill/>
          </a:ln>
        </p:spPr>
      </p:pic>
      <p:sp>
        <p:nvSpPr>
          <p:cNvPr id="380" name="內容版面配置區 2"/>
          <p:cNvSpPr/>
          <p:nvPr/>
        </p:nvSpPr>
        <p:spPr>
          <a:xfrm>
            <a:off x="4788000" y="1413000"/>
            <a:ext cx="3960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3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公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騎乘時間：約 １ 小時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30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分鐘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  <a:ea typeface="微軟正黑體"/>
              </a:rPr>
              <a:t>公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81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42920" y="0"/>
            <a:ext cx="3529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8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月</a:t>
            </a:r>
            <a:r>
              <a:rPr b="0" lang="en-US" sz="2900" spc="-1" strike="noStrike">
                <a:solidFill>
                  <a:srgbClr val="94c600"/>
                </a:solidFill>
                <a:latin typeface="微軟正黑體"/>
              </a:rPr>
              <a:t>31</a:t>
            </a:r>
            <a:r>
              <a:rPr b="0" lang="zh-TW" sz="2900" spc="-1" strike="noStrike">
                <a:solidFill>
                  <a:srgbClr val="94c600"/>
                </a:solidFill>
                <a:latin typeface="微軟正黑體"/>
              </a:rPr>
              <a:t>日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95280" y="1341360"/>
            <a:ext cx="41054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站別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6.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桃園縣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起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1:05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桃園縣 蘆竹鄉 桃園龍德宮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終點：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1:30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桃園縣 蘆竹鄉 海山路二段 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560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號 </a:t>
            </a:r>
            <a:r>
              <a:rPr b="0" lang="en-US" sz="1600" spc="-1" strike="noStrike">
                <a:solidFill>
                  <a:srgbClr val="3e3d2d"/>
                </a:solidFill>
                <a:latin typeface="Century Gothic"/>
              </a:rPr>
              <a:t>7-11 </a:t>
            </a:r>
            <a:r>
              <a:rPr b="0" lang="zh-TW" sz="1600" spc="-1" strike="noStrike">
                <a:solidFill>
                  <a:srgbClr val="3e3d2d"/>
                </a:solidFill>
                <a:latin typeface="Century Gothic"/>
              </a:rPr>
              <a:t>海湖門市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里程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11.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騎乘時間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分鐘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平均時速：約 </a:t>
            </a:r>
            <a:r>
              <a:rPr b="0" lang="en-US" sz="1600" spc="-1" strike="noStrike">
                <a:solidFill>
                  <a:srgbClr val="3e3d2d"/>
                </a:solidFill>
                <a:latin typeface="微軟正黑體"/>
              </a:rPr>
              <a:t>20 ~ 25 </a:t>
            </a:r>
            <a:r>
              <a:rPr b="0" lang="zh-TW" sz="1600" spc="-1" strike="noStrike">
                <a:solidFill>
                  <a:srgbClr val="3e3d2d"/>
                </a:solidFill>
                <a:latin typeface="微軟正黑體"/>
              </a:rPr>
              <a:t>公里</a:t>
            </a:r>
            <a:endParaRPr b="0" lang="en-US" sz="1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4506840" y="105264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D:\Documents\拱範宮\20120801_拱範宮 24h 單車環島行程\Material\00_第二代_Q版_組合.jpg"/>
          <p:cNvPicPr/>
          <p:nvPr/>
        </p:nvPicPr>
        <p:blipFill>
          <a:blip r:embed="rId2"/>
          <a:stretch/>
        </p:blipFill>
        <p:spPr>
          <a:xfrm>
            <a:off x="1116000" y="4221000"/>
            <a:ext cx="2519280" cy="2268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D:\Documents\拱範宮\20120801_拱範宮 24h 單車環島行程\Material\拱範宮 48h 單車環島.jpg"/>
          <p:cNvPicPr/>
          <p:nvPr/>
        </p:nvPicPr>
        <p:blipFill>
          <a:blip r:embed="rId3"/>
          <a:stretch/>
        </p:blipFill>
        <p:spPr>
          <a:xfrm>
            <a:off x="1187280" y="471600"/>
            <a:ext cx="24688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01:56:09Z</dcterms:created>
  <dc:creator>Levi</dc:creator>
  <dc:description/>
  <dc:language>en-US</dc:language>
  <cp:lastModifiedBy>Levi</cp:lastModifiedBy>
  <cp:lastPrinted>2012-08-02T07:52:45Z</cp:lastPrinted>
  <dcterms:modified xsi:type="dcterms:W3CDTF">2012-08-29T13:15:18Z</dcterms:modified>
  <cp:revision>49</cp:revision>
  <dc:subject/>
  <dc:title>PowerPoint 簡報</dc:title>
</cp:coreProperties>
</file>